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40200" y="-360"/>
            <a:ext cx="3013200" cy="461880"/>
          </a:xfrm>
          <a:prstGeom prst="rect">
            <a:avLst/>
          </a:prstGeom>
          <a:noFill/>
          <a:ln w="0">
            <a:noFill/>
          </a:ln>
        </p:spPr>
        <p:txBody>
          <a:bodyPr lIns="92520" rIns="9252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8200" y="693720"/>
            <a:ext cx="4617720" cy="346392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7160"/>
            <a:ext cx="3013200" cy="46224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40200" y="8777160"/>
            <a:ext cx="3013200" cy="46224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6EE6-A737-4711-9DF4-6251C1BA6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68560" y="693720"/>
            <a:ext cx="4617720" cy="3463920"/>
          </a:xfrm>
          <a:prstGeom prst="rect">
            <a:avLst/>
          </a:prstGeom>
          <a:ln w="0">
            <a:noFill/>
          </a:ln>
        </p:spPr>
      </p:sp>
      <p:sp>
        <p:nvSpPr>
          <p:cNvPr id="66"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0E6B-3056-4209-9095-6FB7111F0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CE19F-FF32-4C89-A8D3-5840D901D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AA5CD-06B6-4471-BBC4-CB1939A3C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4D649-E39E-4E63-939B-811B66FDD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52C37-302D-4962-A107-73283E071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0A7C-8358-4F52-8AF5-27E7966E7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F00E2-3CDE-4015-81E7-771F1CF5F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13285-10D0-4159-BBB6-3F3DB1BF9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37B11-CAB5-452B-BAB9-3EFF05C5F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1EA5A-D589-4531-BDFD-023254D5D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BA50-ADC0-445A-B82F-3EFAAE175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DA8BE-2071-4620-9C90-0E87EE4BC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153B1-98D3-4283-B91A-3000DD4C2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2EE6-54BE-4C62-9CB7-4DB342F4C6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Text Box 1097"/>
          <p:cNvSpPr/>
          <p:nvPr/>
        </p:nvSpPr>
        <p:spPr>
          <a:xfrm>
            <a:off x="2209680" y="121932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as compromise necessary during the Constitutional Convention of 1787?</a:t>
            </a:r>
            <a:endParaRPr b="0" lang="en-US" sz="1800" spc="-1" strike="noStrike">
              <a:solidFill>
                <a:srgbClr val="000000"/>
              </a:solidFill>
              <a:latin typeface="Arial"/>
            </a:endParaRPr>
          </a:p>
        </p:txBody>
      </p:sp>
      <p:sp>
        <p:nvSpPr>
          <p:cNvPr id="5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100"/>
          <p:cNvSpPr/>
          <p:nvPr/>
        </p:nvSpPr>
        <p:spPr>
          <a:xfrm>
            <a:off x="2209680" y="1828800"/>
            <a:ext cx="655344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discussion:  What is one situation where you have had to compromise (ex. Playing with your siblings when you were younger, working in a group, etc.)?  Was it easy or difficult?  Why is it hard to compromise?  Why is it necessary?</a:t>
            </a:r>
            <a:endParaRPr b="0" lang="en-US" sz="1800" spc="-1" strike="noStrike">
              <a:solidFill>
                <a:srgbClr val="000000"/>
              </a:solidFill>
              <a:latin typeface="Arial"/>
            </a:endParaRPr>
          </a:p>
        </p:txBody>
      </p:sp>
      <p:sp>
        <p:nvSpPr>
          <p:cNvPr id="57" name="Text Box 1103"/>
          <p:cNvSpPr/>
          <p:nvPr/>
        </p:nvSpPr>
        <p:spPr>
          <a:xfrm>
            <a:off x="380880" y="12193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58" name="Text Box 1104"/>
          <p:cNvSpPr/>
          <p:nvPr/>
        </p:nvSpPr>
        <p:spPr>
          <a:xfrm>
            <a:off x="380880" y="1905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59" name="Text Box 1105"/>
          <p:cNvSpPr/>
          <p:nvPr/>
        </p:nvSpPr>
        <p:spPr>
          <a:xfrm>
            <a:off x="380880" y="2743200"/>
            <a:ext cx="1600200" cy="96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60" name="Text Box 1106"/>
          <p:cNvSpPr/>
          <p:nvPr/>
        </p:nvSpPr>
        <p:spPr>
          <a:xfrm>
            <a:off x="533520" y="4648320"/>
            <a:ext cx="1447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1" name="Text Box 1107"/>
          <p:cNvSpPr/>
          <p:nvPr/>
        </p:nvSpPr>
        <p:spPr>
          <a:xfrm>
            <a:off x="380880" y="57150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62" name="TextBox 18"/>
          <p:cNvSpPr/>
          <p:nvPr/>
        </p:nvSpPr>
        <p:spPr>
          <a:xfrm>
            <a:off x="304920" y="609480"/>
            <a:ext cx="845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Lesson Duration</a:t>
            </a:r>
            <a:r>
              <a:rPr b="1" lang="en-US" sz="1400" spc="-1" strike="noStrike" u="sng">
                <a:solidFill>
                  <a:srgbClr val="000000"/>
                </a:solidFill>
                <a:uFillTx/>
                <a:latin typeface="Arial"/>
              </a:rPr>
              <a:t>   2 Days   </a:t>
            </a:r>
            <a:r>
              <a:rPr b="1" lang="en-US" sz="1400" spc="-1" strike="noStrike">
                <a:solidFill>
                  <a:srgbClr val="000000"/>
                </a:solidFill>
                <a:latin typeface="Arial"/>
              </a:rPr>
              <a:t>beginning date _____________</a:t>
            </a:r>
            <a:endParaRPr b="0" lang="en-US" sz="1400" spc="-1" strike="noStrike">
              <a:solidFill>
                <a:srgbClr val="000000"/>
              </a:solidFill>
              <a:latin typeface="Arial"/>
            </a:endParaRPr>
          </a:p>
        </p:txBody>
      </p:sp>
      <p:sp>
        <p:nvSpPr>
          <p:cNvPr id="63" name="TextBox 18"/>
          <p:cNvSpPr/>
          <p:nvPr/>
        </p:nvSpPr>
        <p:spPr>
          <a:xfrm>
            <a:off x="2286000" y="3200400"/>
            <a:ext cx="63244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 Constitutional Convention (Notes).  Discuss controversial issues (ex. Representation, slavery,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lip of “A More Perfect Union” simulating heated debate that took place during Conven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students complete an anticipation guide on what compromises were reached.  Then complete guided reading on selected Articles of the Constitution.  Evaluate anticipation guide predi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complete an assignment that demonstrates understanding of why compromise was necessary during the Constitutional Convention (see Differentiated Instruction bel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 name="TextBox 19"/>
          <p:cNvSpPr/>
          <p:nvPr/>
        </p:nvSpPr>
        <p:spPr>
          <a:xfrm>
            <a:off x="2362320" y="4343400"/>
            <a:ext cx="632448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have three options:</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chart which illustrates what important compromises were reached during the convention, why each was important to drafting the finished product, and  predict ways in which the Constitution would have been different if compromises had not been reached. (Analytical)</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write an op-ed newspaper article describing the compromises of the Constitutional Convention, and taking the health care reform bill currently being discussed in the Senate, provide advice to Republican and Democratic senators based on lessons learned from the Convention on how to compromise. (Practical)</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wo skits, one which simulates the compromises as they actually took place during the Constitutional Convention, and another that depicts what would have happened had they not been reached. (Crea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each student/group present their assignment to the cla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21:48:17Z</dcterms:created>
  <dc:creator>WVDE</dc:creator>
  <dc:description/>
  <dc:language>en-US</dc:language>
  <cp:lastModifiedBy>jbaker</cp:lastModifiedBy>
  <dcterms:modified xsi:type="dcterms:W3CDTF">2009-11-09T18:55:56Z</dcterms:modified>
  <cp:revision>104</cp:revision>
  <dc:subject/>
  <dc:title>Slide 1</dc:title>
</cp:coreProperties>
</file>